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5AA5-20F1-41D2-B247-7D36AFAF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A79-6ACF-4AEE-B96B-33C4F01F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0D24-196F-4D13-BAE6-06F0B0CE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A87-C54D-4790-B56C-EF297E25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613-5179-4E70-8FED-ED992344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D8A7-F4E5-4C00-9F35-ACC205DE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95B2-D197-4ACA-8082-7E35725D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D94B-2722-4549-A2CA-2CFFCC27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9BC9-DFAE-4941-8D7F-FA8AF4EF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167-388E-4094-83F9-18DE1757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8D8-8583-4D7A-AD68-B30C7D0E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528-3C59-43B3-82DA-93444687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773F-B352-4AD2-8107-930179B51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acrdhrt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19920" y="304920"/>
            <a:ext cx="2895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جايي مْنِ بْعيد  -تْتزورنا  بهالعيد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لبي إِلَكْ مَفْتُوح   -انتَ حَبيبِ الروح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َلبي عْمِلو مِذوَد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5753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53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791320" y="380880"/>
            <a:ext cx="3047760" cy="82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ولود طفلِ صْغير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بكوخ مَنّو كْبير  تْرَكْتِ الغِنَى والدّور    -تْخَليّت عَنْ القصورْ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تْحَلّيْت بِمِذْوَدْ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acrdhrt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19920" y="304920"/>
            <a:ext cx="2895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جايي مْنِ بْعيد  -تْتزورنا  بهالعيد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لبي إِلَكْ مَفْتُوح   -انتَ حَبيبِ الروح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َلبي عْمِلو مِذوَد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5282313eoOaTx_ph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867280" y="304920"/>
            <a:ext cx="30481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بْلَيْلة رَعْد وبَردْ         والثَلْج غَطّى الجِرْدْ</a:t>
            </a:r>
            <a:br>
              <a:rPr sz="4000"/>
            </a:br>
            <a:r>
              <a:rPr b="1" lang="ar-SA" sz="40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  رَبِّ السَّما الموعود      -بِأرْضنا مَوْلود</a:t>
            </a:r>
            <a:br>
              <a:rPr sz="4000"/>
            </a:br>
            <a:r>
              <a:rPr b="1" lang="ar-SA" sz="40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مَوْضوع بِمِذْوَدْ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acrdhrt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19920" y="304920"/>
            <a:ext cx="2895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جايي مْنِ بْعيد  -تْتزورنا  بهالعيد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لبي إِلَكْ مَفْتُوح   -انتَ حَبيبِ الروح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َلبي عْمِلو مِذوَد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21:01:10Z</dcterms:created>
  <dc:creator>USER</dc:creator>
  <dc:description/>
  <dc:language>en-US</dc:language>
  <cp:lastModifiedBy>USER</cp:lastModifiedBy>
  <dcterms:modified xsi:type="dcterms:W3CDTF">2002-11-28T21:01:16Z</dcterms:modified>
  <cp:revision>1</cp:revision>
  <dc:subject/>
  <dc:title>PowerPoint Presentation</dc:title>
</cp:coreProperties>
</file>